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903A-C805-40ED-92AD-3BAE7672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D2DC-81A3-4825-9EDA-5F3D2B0C9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43D8-E7CD-45D0-B6A6-A0562CBF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42B4-4AB1-417B-9916-B3946F6E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82E5-BC8A-410B-BF21-859DD295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C39-E3F9-4583-BE2B-E8D85216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C84-F9BB-4F67-BE7D-A148839B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5D0C-7A72-409C-A6A0-584AA303D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F2A-616F-46FB-B56A-1C6C64E5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7C6-2483-4DD9-90C7-0BDA9C8C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BDD-E2C4-463C-AB13-B34EE02F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08F-1400-4D91-B71D-C57252BD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BE4-904A-46EC-A0F5-F60316D6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06F-CA0F-4D5B-B3FF-BB99968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43A-0E85-48E3-A81A-1A5502CF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5B0-BC30-4C02-A6B2-2D7B133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66D-69ED-4371-B80A-3CE4D53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C1D-444F-401D-A5DA-140E3A69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5C7-855E-47B1-A1F8-59FAAD8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3FA-DB01-458F-B93C-DD5E1B23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5DC-3D9E-4E2A-B108-4B5B6B5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CD7-4E65-4C1E-97CB-51A47D8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DF3-6B84-42DC-A42D-892A958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E0B-D454-4606-9F68-44FA519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CC06-C40A-4412-BB37-3D20E617A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roup22"/>
          <p:cNvPicPr/>
          <p:nvPr/>
        </p:nvPicPr>
        <p:blipFill>
          <a:blip r:embed="rId1"/>
          <a:stretch/>
        </p:blipFill>
        <p:spPr>
          <a:xfrm>
            <a:off x="1066680" y="2209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28600" y="44197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152280"/>
            <a:ext cx="6096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ACE of B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roadway"/>
              </a:rPr>
              <a:t>Totally addicted to bas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USA Re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609480" y="2109960"/>
            <a:ext cx="80773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group2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6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5105520" y="152280"/>
            <a:ext cx="3886200" cy="990720"/>
          </a:xfrm>
          <a:prstGeom prst="wedgeRoundRectCallout">
            <a:avLst>
              <a:gd name="adj1" fmla="val -45342"/>
              <a:gd name="adj2" fmla="val 66986"/>
              <a:gd name="adj3" fmla="val 16667"/>
            </a:avLst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roadway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roup6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 of BASE Redefined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ning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ltimate USA reun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ACE of BASE Redefined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60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90s Swedish Pop wonders Jenny, Jonas, Malin, and Ulf have releas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DEFIN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re going on t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es: Ukraine, Russia, Bulgaria, Denmark, Norway,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’t AoB share thei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defin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U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group21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1600200"/>
          <a:ext cx="403848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2"/>
          <p:cNvSpPr/>
          <p:nvPr/>
        </p:nvSpPr>
        <p:spPr>
          <a:xfrm>
            <a:off x="4800600" y="1981080"/>
            <a:ext cx="373392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oooove AoB. When the heck are these guys coming back to the US? Fans are dying here…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ehard Base 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uote from Min Kim’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dicted to Bas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week window to come to the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returns based on predicted sales in pre-selected citi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re to play? in which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572000" cy="174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group"/>
          <p:cNvPicPr/>
          <p:nvPr/>
        </p:nvPicPr>
        <p:blipFill>
          <a:blip r:embed="rId2"/>
          <a:stretch/>
        </p:blipFill>
        <p:spPr>
          <a:xfrm>
            <a:off x="4921200" y="3809880"/>
            <a:ext cx="3492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0"/>
          <p:cNvGrpSpPr/>
          <p:nvPr/>
        </p:nvGrpSpPr>
        <p:grpSpPr>
          <a:xfrm>
            <a:off x="304920" y="1143000"/>
            <a:ext cx="8610840" cy="5315040"/>
            <a:chOff x="304920" y="1143000"/>
            <a:chExt cx="8610840" cy="5315040"/>
          </a:xfrm>
        </p:grpSpPr>
        <p:pic>
          <p:nvPicPr>
            <p:cNvPr id="68" name="Picture 6" descr="usa-conic-1225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861048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7"/>
            <p:cNvSpPr/>
            <p:nvPr/>
          </p:nvSpPr>
          <p:spPr>
            <a:xfrm>
              <a:off x="7543800" y="3105360"/>
              <a:ext cx="457200" cy="457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9"/>
            <p:cNvCxnSpPr/>
            <p:nvPr/>
          </p:nvCxnSpPr>
          <p:spPr>
            <a:xfrm>
              <a:off x="8915040" y="38001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Line 10"/>
            <p:cNvSpPr/>
            <p:nvPr/>
          </p:nvSpPr>
          <p:spPr>
            <a:xfrm flipV="1">
              <a:off x="8001000" y="3028680"/>
              <a:ext cx="91440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1"/>
            <p:cNvSpPr/>
            <p:nvPr/>
          </p:nvSpPr>
          <p:spPr>
            <a:xfrm>
              <a:off x="8001000" y="24195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2"/>
            <p:cNvSpPr/>
            <p:nvPr/>
          </p:nvSpPr>
          <p:spPr>
            <a:xfrm>
              <a:off x="7620120" y="280044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3"/>
            <p:cNvSpPr/>
            <p:nvPr/>
          </p:nvSpPr>
          <p:spPr>
            <a:xfrm>
              <a:off x="7467480" y="29527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4"/>
            <p:cNvSpPr/>
            <p:nvPr/>
          </p:nvSpPr>
          <p:spPr>
            <a:xfrm>
              <a:off x="7391520" y="33339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5"/>
            <p:cNvSpPr/>
            <p:nvPr/>
          </p:nvSpPr>
          <p:spPr>
            <a:xfrm>
              <a:off x="5562720" y="28767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>
              <a:off x="4876920" y="2952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7"/>
            <p:cNvSpPr/>
            <p:nvPr/>
          </p:nvSpPr>
          <p:spPr>
            <a:xfrm>
              <a:off x="5181480" y="3562560"/>
              <a:ext cx="381240" cy="30456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8"/>
            <p:cNvSpPr/>
            <p:nvPr/>
          </p:nvSpPr>
          <p:spPr>
            <a:xfrm>
              <a:off x="5334120" y="257184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9"/>
            <p:cNvSpPr/>
            <p:nvPr/>
          </p:nvSpPr>
          <p:spPr>
            <a:xfrm>
              <a:off x="4495680" y="34099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0"/>
            <p:cNvSpPr/>
            <p:nvPr/>
          </p:nvSpPr>
          <p:spPr>
            <a:xfrm>
              <a:off x="6553080" y="47815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21"/>
            <p:cNvSpPr/>
            <p:nvPr/>
          </p:nvSpPr>
          <p:spPr>
            <a:xfrm>
              <a:off x="4419720" y="49341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22"/>
            <p:cNvSpPr/>
            <p:nvPr/>
          </p:nvSpPr>
          <p:spPr>
            <a:xfrm>
              <a:off x="3886200" y="5238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3"/>
            <p:cNvSpPr/>
            <p:nvPr/>
          </p:nvSpPr>
          <p:spPr>
            <a:xfrm>
              <a:off x="7162920" y="59245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4"/>
            <p:cNvSpPr/>
            <p:nvPr/>
          </p:nvSpPr>
          <p:spPr>
            <a:xfrm>
              <a:off x="3048120" y="34099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5"/>
            <p:cNvSpPr/>
            <p:nvPr/>
          </p:nvSpPr>
          <p:spPr>
            <a:xfrm>
              <a:off x="6553080" y="52387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>
              <a:off x="609480" y="13525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7"/>
            <p:cNvSpPr/>
            <p:nvPr/>
          </p:nvSpPr>
          <p:spPr>
            <a:xfrm>
              <a:off x="1752480" y="45529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8"/>
            <p:cNvSpPr/>
            <p:nvPr/>
          </p:nvSpPr>
          <p:spPr>
            <a:xfrm>
              <a:off x="304920" y="2952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9"/>
            <p:cNvSpPr/>
            <p:nvPr/>
          </p:nvSpPr>
          <p:spPr>
            <a:xfrm>
              <a:off x="762120" y="4095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Target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48520" y="1752480"/>
            <a:ext cx="2666880" cy="4217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TIES &amp;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th and Midwest love them some AoB… the NE and west coast, uh not so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&amp; end in Baltimore, Charm C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of 14 cities (allow time for aging vocal chords to r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play each city once (exceptions: NYC, Chicago, and Dall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pre-selected potent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28600" y="1752480"/>
            <a:ext cx="2743200" cy="4210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VE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travel 700 mile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701-1200 miles two nights sta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ater than 1200 miles   incur a massive pen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buses, $4/gal (1 mile/ 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rooms, $200/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od, $3000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ionary, $2000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cost, $1.5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00400" y="1752480"/>
            <a:ext cx="2743200" cy="3388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NUES &amp; TI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mal stadium capacity approx 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cket prices $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% of ticket buyers at each venue will purchase merchandise, average 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venue garners 40% of box-office ticket sales to cover overhead and space 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010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0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36716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9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36716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8" descr=""/>
          <p:cNvPicPr/>
          <p:nvPr/>
        </p:nvPicPr>
        <p:blipFill>
          <a:blip r:embed="rId3"/>
          <a:stretch/>
        </p:blipFill>
        <p:spPr>
          <a:xfrm>
            <a:off x="4419720" y="3124080"/>
            <a:ext cx="4367160" cy="3024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71"/>
          <p:cNvSpPr/>
          <p:nvPr/>
        </p:nvSpPr>
        <p:spPr>
          <a:xfrm>
            <a:off x="5030640" y="16765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Evolutionary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USA Re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usa-conic-1225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3150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7543800" y="3105000"/>
            <a:ext cx="45720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8"/>
          <p:cNvCxnSpPr/>
          <p:nvPr/>
        </p:nvCxnSpPr>
        <p:spPr>
          <a:xfrm>
            <a:off x="8915040" y="3800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Line 9"/>
          <p:cNvSpPr/>
          <p:nvPr/>
        </p:nvSpPr>
        <p:spPr>
          <a:xfrm flipV="1">
            <a:off x="8001000" y="3028680"/>
            <a:ext cx="914400" cy="22860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7391520" y="33336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4419720" y="49338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7162920" y="59245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048120" y="34099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7772400" y="2971440"/>
            <a:ext cx="7632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5410080" y="2971800"/>
            <a:ext cx="236232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7620120" y="2800440"/>
            <a:ext cx="380880" cy="3045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1"/>
          <p:cNvSpPr/>
          <p:nvPr/>
        </p:nvSpPr>
        <p:spPr>
          <a:xfrm flipV="1">
            <a:off x="5334120" y="3047760"/>
            <a:ext cx="38088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5181480" y="356220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 flipH="1" flipV="1">
            <a:off x="5562360" y="2742840"/>
            <a:ext cx="152280" cy="2286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562720" y="28764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 flipH="1">
            <a:off x="4724280" y="3048120"/>
            <a:ext cx="91440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5334120" y="2571840"/>
            <a:ext cx="380880" cy="3045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 flipH="1">
            <a:off x="4191120" y="3581280"/>
            <a:ext cx="457200" cy="17528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4495680" y="34099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 flipH="1" flipV="1">
            <a:off x="3276720" y="3580920"/>
            <a:ext cx="761760" cy="1752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4114800" y="5334120"/>
            <a:ext cx="25146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3886200" y="52387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>
            <a:off x="6553080" y="52387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H="1" flipV="1">
            <a:off x="6781680" y="5029200"/>
            <a:ext cx="457200" cy="914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V="1">
            <a:off x="6781680" y="3581280"/>
            <a:ext cx="685800" cy="1371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6553080" y="47815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3:07:03Z</dcterms:created>
  <dc:creator>Jaclyn B. Bliss</dc:creator>
  <dc:description/>
  <dc:language>en-US</dc:language>
  <cp:lastModifiedBy>Minkyung Kim</cp:lastModifiedBy>
  <dcterms:modified xsi:type="dcterms:W3CDTF">2008-05-05T01:57:05Z</dcterms:modified>
  <cp:revision>26</cp:revision>
  <dc:subject/>
  <dc:title>Slide 1</dc:title>
</cp:coreProperties>
</file>